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687-9642-4836-BE4E-234988F64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31B8-D37C-4FCC-BA4D-7BB48FAA5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63625-1C8C-4D9F-9099-BAAF47C9B2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0A2EA-989F-40F2-995B-F8FA0ABC3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419-DA36-47E7-AA45-00ECE208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8459D-DDBD-4F1F-8B10-3C2E7388F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7C88-4EE3-4765-8C63-730714283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217-6C3F-4FE8-A573-2508083E2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20061-7731-48CD-B45A-E72548038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99419-6BCB-404C-B272-ECF743130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464-75F1-466B-878A-D89CA0602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EE22C-7470-4B56-A7B5-36CEFA5FA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F8541-A757-44A9-9448-F820EE9B3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D0F-C6BF-455D-87A7-9280E58B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E406C-0612-4497-96E4-EE4758616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0A4FE-5A62-48A8-9FBD-DA6F476E1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FFB-7FC3-45AF-B6E1-13FC2B4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CB0-CA7E-48AB-921E-658A3BD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B45-BAF9-4BCD-B1F5-C08C373D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86E-61A7-41F1-9381-68D62732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198-30F4-4661-A003-A7C0DB1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F43-A86D-4448-9F9A-9D7BEEB7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8D7-009B-42A3-990D-FF93D76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80E-7D91-4FB9-8858-F88C5EB1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3B3-F1EB-4208-B8D0-481395F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08B-D5BE-418A-9C50-265EAB9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A43-158F-4E1C-8F99-C63B5B3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C5C-2DA8-4BAF-AD02-13EE7A6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CAF463FB-C3B5-43D0-9D52-836A7962EE87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F2B-7240-4EC8-955D-BD7A6011D9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next 18-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792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0">
              <a:lnSpc>
                <a:spcPct val="98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 and CNIG-IGN will connec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: MRO – JBO at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and routine operations to &gt;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next 18-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260360"/>
            <a:ext cx="7925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non-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for HR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international part for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 ongoing for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7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EVN institution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SIRO, 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l infrastructures are in place @ 1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internation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 (ongoing for CSI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nectivity foreca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30320" y="1376280"/>
          <a:ext cx="7199280" cy="44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1376280"/>
                    <a:ext cx="719928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C26-A2A0-4234-B47F-EAA21D115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status (1</a:t>
            </a:r>
            <a:r>
              <a:rPr b="0" lang="en-GB" sz="4000" spc="-1" strike="noStrike" baseline="33000">
                <a:solidFill>
                  <a:srgbClr val="333399"/>
                </a:solidFill>
                <a:latin typeface="Times New Roman"/>
              </a:rPr>
              <a:t>st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Year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3360" y="1131840"/>
            <a:ext cx="803736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forecast of next 18 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8124840" cy="470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38:16Z</dcterms:modified>
  <cp:revision>104</cp:revision>
  <dc:subject/>
  <dc:title>Slide 1</dc:title>
</cp:coreProperties>
</file>